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0024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D6C5-6600-4594-BD01-3F6C46C88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245F-9338-461A-8068-D80954D8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4C29-F452-497D-A860-6F43B32B6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A229-087E-4BAC-8AFF-BFED24097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8B76-6DD6-4976-8EBC-BB02171E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4CF0-4C56-426B-8F66-E6A410C5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39B6-EC95-496A-A5BF-E3CA435F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9111-2002-4C5F-B3EA-9DEF727D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28FC-9B77-4D70-8D09-E9F990C0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5835-2740-48D5-B91F-8E0E1807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C746-B8A6-4287-928A-507FC310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F768-EE45-4493-9DD3-53982067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4F65-C275-4737-B134-B0B480B4A2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16:  Random 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 Stat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dding/Subtracting a Constant to Discrete Random Variab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3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397836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ultiplying/Dividing a Constant to Discrete Random Variab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se that the payout for each outcome in Game 2 is doubled.  What happens to the expected value, variance and standard devi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ultiplying/Dividing a Constant to Discrete Random Variab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ontent Placeholder 3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41911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“chang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f you play the Game 1 twice (or you play once and your friend plays once)?  What is the expected value, variance and standard devi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“chang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play both games, what is the difference in you expected values, variances, and standard deviations.  We will look at the difference between Game 1 and Game 2.  (Need for the outcomes of the games to be independent—or else cannot go forward with problem.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ther “changes” with discrete (and continuous) random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dependent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ontent Placeholder 3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491000" cy="1619280"/>
          </a:xfrm>
          <a:prstGeom prst="rect">
            <a:avLst/>
          </a:prstGeom>
          <a:ln w="0">
            <a:noFill/>
          </a:ln>
        </p:spPr>
      </p:pic>
      <p:sp>
        <p:nvSpPr>
          <p:cNvPr id="75" name="TextBox 4"/>
          <p:cNvSpPr/>
          <p:nvPr/>
        </p:nvSpPr>
        <p:spPr>
          <a:xfrm>
            <a:off x="2133720" y="48769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OTE:  You ALWAYS add vari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inuous Random 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continuous random variables have normal models (others do not).  All continuous random models have means and standard deviations (and variance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given the mean and standard deviations of a continuous random variable that can be modeled by a normal curve, we can calculate certain probabilit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 two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ndependent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tinuous random variables have Normal models, so does their sum or differen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been determined that the annual cost of medical care for dogs  averages $100, with a standard deviation of $30, and for cats averages $120, with a standard deviation of $3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expected difference in the cost of medical care for dogs and cats?  What is the standard deviation of that differen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 difference in cost can be described by a Normal model, what is the probability that medical expenses are higher from someone’s dog than for her ca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f you have two dogs and a cat?  What is the expected value of your annual medical costs?  Standard devi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Random Variable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A variable whose value is based on the outcome of a random event.  Use capital letter,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Discrete Random Variable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A random variable that can take one of a countable number of distinct outcom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ontinuous Random Variable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A random variable that can take any numeric value within a range of values.  The range may be infinite or bounded at either or both end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(con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probability that your annual medical bills will exceed $400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a free game at a carnival that you attend.  In that game, a coin is tossed twice.  If the result is the same outcome (HH or TT) you win $20.  If the result is first a heads and then a tails, you win $30; but if the result is first a tails and then a heads, you lose $60.  What is the expect amount you’ll win in the long ru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cted Value of Random Discrete Variab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eoretical long-run average value,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en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its model.  It is a theoretical mean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ject 3" descr=""/>
          <p:cNvPicPr/>
          <p:nvPr/>
        </p:nvPicPr>
        <p:blipFill>
          <a:blip r:embed="rId1"/>
          <a:stretch/>
        </p:blipFill>
        <p:spPr>
          <a:xfrm>
            <a:off x="1714680" y="3429000"/>
            <a:ext cx="488916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another game at a the carnival.  This game costs $5 to play.  In this game you toss a die and if a 1, 2, or is rolled, you lose (get no money); if you roll a 4 or a 5, you win $20 and if a 6 is rolled, you win $100.  What is the expected amount you will win in the long ru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viously, if you play each game for a long stretch of time, you will win, on average, the expected value.  However, there will be variation in your winnings.  We can compute this vari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riance and Standard Deviation of Discrete Random Variab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ariance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xpected value of the squared deviation from the me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andard Deviation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s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p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the data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5181480" y="2133720"/>
            <a:ext cx="142560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Object 3" descr=""/>
          <p:cNvPicPr/>
          <p:nvPr/>
        </p:nvPicPr>
        <p:blipFill>
          <a:blip r:embed="rId2"/>
          <a:stretch/>
        </p:blipFill>
        <p:spPr>
          <a:xfrm>
            <a:off x="2286000" y="2666880"/>
            <a:ext cx="3613320" cy="533520"/>
          </a:xfrm>
          <a:prstGeom prst="rect">
            <a:avLst/>
          </a:prstGeom>
          <a:ln w="0">
            <a:noFill/>
          </a:ln>
        </p:spPr>
      </p:pic>
      <p:pic>
        <p:nvPicPr>
          <p:cNvPr id="58" name="Object 4" descr=""/>
          <p:cNvPicPr/>
          <p:nvPr/>
        </p:nvPicPr>
        <p:blipFill>
          <a:blip r:embed="rId3"/>
          <a:stretch/>
        </p:blipFill>
        <p:spPr>
          <a:xfrm>
            <a:off x="2743200" y="5105520"/>
            <a:ext cx="301320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the variance and standard deviation of the two games described earli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dding/Subtracting a Constant to Discrete Random Variab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se that for Game 2, they increase the fee to play from $5 to $8.  What happens to the expected value, variance and the standard devi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05:24:00Z</dcterms:created>
  <dc:creator>fmasinmoyer</dc:creator>
  <dc:description/>
  <dc:language>en-US</dc:language>
  <cp:lastModifiedBy>SASD</cp:lastModifiedBy>
  <dcterms:modified xsi:type="dcterms:W3CDTF">2010-03-23T11:19:14Z</dcterms:modified>
  <cp:revision>17</cp:revision>
  <dc:subject/>
  <dc:title>Chapter 16:  Random Variables</dc:title>
</cp:coreProperties>
</file>